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E82557-5E00-458A-9702-868B447A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63BB8D-6F92-44F2-BB0A-AF4DFBFF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78677D-28B3-4CD9-BC2E-186C2B28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BBDF4C-5600-4AD3-8B6C-2A41EE24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BFC-B913-439D-AE2F-F156125B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6B7-41B2-4511-B9A7-632CA94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7F5-B912-42E4-9043-D04F628A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664-943D-485E-995A-A404726F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E0B-7025-4EA2-BCFE-56763B4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6D4-CF37-4D44-9998-5B74FAF5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759-0814-4D00-8F35-CF3C3798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8FC-5F92-44BE-9B62-979DFC9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3BA-78F0-426F-BD38-036FCF09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6C-EE64-4E71-A655-69DC84E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442-8F61-4302-B980-57962DD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43E-3CC6-43D4-8868-10D9915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en PPT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71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DDF9-3A81-4B99-A570-EDF36AC42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en PPT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ideolan.org/vlc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log.discoveryeducation.com/streaming_a_to_z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9047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4b6"/>
                </a:solidFill>
                <a:latin typeface="Arial"/>
              </a:rPr>
              <a:t>Closed Captions</a:t>
            </a:r>
            <a:br>
              <a:rPr sz="3600"/>
            </a:br>
            <a:r>
              <a:rPr b="0" lang="en-US" sz="3600" spc="-1" strike="noStrike">
                <a:solidFill>
                  <a:srgbClr val="0064b6"/>
                </a:solidFill>
                <a:latin typeface="Arial"/>
              </a:rPr>
              <a:t>More Than Just Scrolling Text!</a:t>
            </a:r>
            <a:endParaRPr b="0" lang="en-US" sz="36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8640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Mon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P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C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Y video in DE streaming and download it into your Close Caption F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the blue download icon and either Save Target As (IE) or Save Link As (Firef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the CC icon and either Save Target As (IE) or Save Link As (Firefox) Save file in the sam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Enable Closed Captioning box is checked and that the Windows Media Player option is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of the clip you that wish to play later by holding down the Ctrl Key and clicking on CC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rompted,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to 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DE streaming Media Settings to Quick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 -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.MOV file of the clip that you wish to play by holding down the Ctrl Key and clicking on blue download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downloaded both files, put them in a folder on your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y your video with closed captions, you will need an application called VLC.  It is free.  You can download VLC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deolan.org/vl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VLC and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ile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File m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subtitles fi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 – last steps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s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in the folder you created on your desktop, then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to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m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in your folder you created on your desktop by clicking the Browse… icon, then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deo should begin playing with closed ca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te about Network Manag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queue the CC file to download at the same time as the video but it is not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CC text files are can be downloaded at any time on both PC and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083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CC videos full screen on a P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Windows Media P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ord “Play” in the tool bar and scroll down to Lyrics, Captions, and Sub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“On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04164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4572000" y="2133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4495680" y="3809880"/>
            <a:ext cx="16765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095880" y="3962520"/>
            <a:ext cx="14479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80880" y="5943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this only works on Windows Media Player 10 or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083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CC videos full screen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word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n the tool bar and choose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checkmarks next t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un script commands when pres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ow local captions when pres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Apply and OK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3353040" cy="13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047760" cy="3848040"/>
          </a:xfrm>
          <a:prstGeom prst="rect">
            <a:avLst/>
          </a:prstGeom>
          <a:ln w="0">
            <a:noFill/>
          </a:ln>
        </p:spPr>
      </p:pic>
      <p:sp>
        <p:nvSpPr>
          <p:cNvPr id="156" name="Line 7"/>
          <p:cNvSpPr/>
          <p:nvPr/>
        </p:nvSpPr>
        <p:spPr>
          <a:xfrm flipH="1">
            <a:off x="6248160" y="39625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6324480" y="4648320"/>
            <a:ext cx="1524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4952880" y="6400800"/>
            <a:ext cx="609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172200" y="6400800"/>
            <a:ext cx="6094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eat Trick – Enlarging Close Captioned Tex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files are downloaded open up your CC fo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on the .smi file and open with a text editor like Note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Font Size to 20 and/or color to red, yellow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actual text! “Sharks are top predators This trick is awesom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c trick 3"/>
          <p:cNvPicPr/>
          <p:nvPr/>
        </p:nvPicPr>
        <p:blipFill>
          <a:blip r:embed="rId1"/>
          <a:stretch/>
        </p:blipFill>
        <p:spPr>
          <a:xfrm>
            <a:off x="5029200" y="1447920"/>
            <a:ext cx="3733920" cy="275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c trick 4"/>
          <p:cNvPicPr/>
          <p:nvPr/>
        </p:nvPicPr>
        <p:blipFill>
          <a:blip r:embed="rId2"/>
          <a:stretch/>
        </p:blipFill>
        <p:spPr>
          <a:xfrm>
            <a:off x="5334120" y="4732200"/>
            <a:ext cx="3047760" cy="851040"/>
          </a:xfrm>
          <a:prstGeom prst="rect">
            <a:avLst/>
          </a:prstGeom>
          <a:ln w="0">
            <a:noFill/>
          </a:ln>
        </p:spPr>
      </p:pic>
      <p:sp>
        <p:nvSpPr>
          <p:cNvPr id="164" name="Line 6"/>
          <p:cNvSpPr/>
          <p:nvPr/>
        </p:nvSpPr>
        <p:spPr>
          <a:xfrm>
            <a:off x="6324480" y="27511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c trick 5"/>
          <p:cNvPicPr/>
          <p:nvPr/>
        </p:nvPicPr>
        <p:blipFill>
          <a:blip r:embed="rId1"/>
          <a:stretch/>
        </p:blipFill>
        <p:spPr>
          <a:xfrm>
            <a:off x="533520" y="1295280"/>
            <a:ext cx="4527360" cy="309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c trick 6"/>
          <p:cNvPicPr/>
          <p:nvPr/>
        </p:nvPicPr>
        <p:blipFill>
          <a:blip r:embed="rId2"/>
          <a:stretch/>
        </p:blipFill>
        <p:spPr>
          <a:xfrm>
            <a:off x="1357200" y="2133720"/>
            <a:ext cx="1981440" cy="1361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c trick 7"/>
          <p:cNvPicPr/>
          <p:nvPr/>
        </p:nvPicPr>
        <p:blipFill>
          <a:blip r:embed="rId3"/>
          <a:stretch/>
        </p:blipFill>
        <p:spPr>
          <a:xfrm>
            <a:off x="4097160" y="2503440"/>
            <a:ext cx="4589640" cy="313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c trick 6"/>
          <p:cNvPicPr/>
          <p:nvPr/>
        </p:nvPicPr>
        <p:blipFill>
          <a:blip r:embed="rId4"/>
          <a:stretch/>
        </p:blipFill>
        <p:spPr>
          <a:xfrm>
            <a:off x="5029200" y="335268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828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943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Before and After Shots of the CC Tric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C Text That You Can Change and Play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3" name="Picture 3" descr="cc trick 8"/>
          <p:cNvPicPr/>
          <p:nvPr/>
        </p:nvPicPr>
        <p:blipFill>
          <a:blip r:embed="rId1"/>
          <a:stretch/>
        </p:blipFill>
        <p:spPr>
          <a:xfrm>
            <a:off x="3048120" y="1787400"/>
            <a:ext cx="5638680" cy="385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c trick 6"/>
          <p:cNvPicPr/>
          <p:nvPr/>
        </p:nvPicPr>
        <p:blipFill>
          <a:blip r:embed="rId2"/>
          <a:stretch/>
        </p:blipFill>
        <p:spPr>
          <a:xfrm>
            <a:off x="4419720" y="2981160"/>
            <a:ext cx="1981080" cy="136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c trick 9"/>
          <p:cNvPicPr/>
          <p:nvPr/>
        </p:nvPicPr>
        <p:blipFill>
          <a:blip r:embed="rId3"/>
          <a:srcRect l="0" t="0" r="8844" b="0"/>
          <a:stretch/>
        </p:blipFill>
        <p:spPr>
          <a:xfrm>
            <a:off x="457200" y="1219320"/>
            <a:ext cx="5183280" cy="145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What are Closed Captions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captioning allows persons with hearing disabilities to have access to television programming by displaying the audio portion of a television program as text on the television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733920" y="5943600"/>
            <a:ext cx="3962160" cy="625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380880" y="6172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aptions.org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eed a recap – check ou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aming A-Z blog 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(best blog in the blogosphere)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tinyurl.com/5led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captioning provides a critical link to news, entertainment, and information for individuals who are deaf or hard-of-hearing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whose native language is not English, English language captions improve comprehension and fluency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 can also help improve literacy ski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0880" y="6172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aptions.org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657600" y="5943600"/>
            <a:ext cx="39625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pening up the Closed Cap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01" name="Picture 3" descr="sb"/>
          <p:cNvPicPr/>
          <p:nvPr/>
        </p:nvPicPr>
        <p:blipFill>
          <a:blip r:embed="rId1"/>
          <a:stretch/>
        </p:blipFill>
        <p:spPr>
          <a:xfrm>
            <a:off x="7391520" y="228600"/>
            <a:ext cx="136656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80880" y="2286000"/>
            <a:ext cx="7391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hearing impair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E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rich a grammar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ach a vocabulary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ork on predict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12952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we want to use CC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What types of video files work with CC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edia Player files “.asf” are fully compatible with CC.  These files can be streamed           and/or dow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users can install a Windows Media Player on their machines and Stream             CC videos/segments and Download             CC videos/segments.  When downloading videos on a Mac, users should choose the .mov or QuickTim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838440" cy="30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838440" cy="34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8229600" y="2209680"/>
            <a:ext cx="685800" cy="26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505320" y="2590920"/>
            <a:ext cx="9903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re all of our videos/segments closed captioned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currently about 30% of the basic DE streaming is captioned and 19% of Plus is cap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9480" y="3657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reaks down like th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DE streaming = 1,149 full CC videos and 11, 729 CC video clips.  Plus = 1,456 full CC videos and 16, 272 video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ding Closed Captioned Title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867280" cy="88236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4495680" y="1905120"/>
            <a:ext cx="11430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80880" y="13716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Advanced Searc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4920" y="266688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oll down and place a check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Only Closed Captioned Tit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5334120" cy="2638440"/>
          </a:xfrm>
          <a:prstGeom prst="rect">
            <a:avLst/>
          </a:prstGeom>
          <a:ln w="0">
            <a:noFill/>
          </a:ln>
        </p:spPr>
      </p:pic>
      <p:sp>
        <p:nvSpPr>
          <p:cNvPr id="119" name="Line 11"/>
          <p:cNvSpPr/>
          <p:nvPr/>
        </p:nvSpPr>
        <p:spPr>
          <a:xfrm>
            <a:off x="2590920" y="2514600"/>
            <a:ext cx="0" cy="1523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BD21301_"/>
          <p:cNvPicPr/>
          <p:nvPr/>
        </p:nvPicPr>
        <p:blipFill>
          <a:blip r:embed="rId3"/>
          <a:stretch/>
        </p:blipFill>
        <p:spPr>
          <a:xfrm>
            <a:off x="3581280" y="32004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21" name="Oval 24"/>
          <p:cNvSpPr/>
          <p:nvPr/>
        </p:nvSpPr>
        <p:spPr>
          <a:xfrm>
            <a:off x="3124080" y="2971800"/>
            <a:ext cx="24386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Turning CC files 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Closed Cap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in the Media Setting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C as the default in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Pre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771720" cy="1876320"/>
          </a:xfrm>
          <a:prstGeom prst="rect">
            <a:avLst/>
          </a:prstGeom>
          <a:ln w="0">
            <a:noFill/>
          </a:ln>
        </p:spPr>
      </p:pic>
      <p:sp>
        <p:nvSpPr>
          <p:cNvPr id="125" name="Oval 6"/>
          <p:cNvSpPr/>
          <p:nvPr/>
        </p:nvSpPr>
        <p:spPr>
          <a:xfrm>
            <a:off x="4419720" y="838080"/>
            <a:ext cx="17524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4419720" cy="963720"/>
          </a:xfrm>
          <a:prstGeom prst="rect">
            <a:avLst/>
          </a:prstGeom>
          <a:ln w="0">
            <a:noFill/>
          </a:ln>
        </p:spPr>
      </p:pic>
      <p:sp>
        <p:nvSpPr>
          <p:cNvPr id="127" name="Oval 9"/>
          <p:cNvSpPr/>
          <p:nvPr/>
        </p:nvSpPr>
        <p:spPr>
          <a:xfrm>
            <a:off x="7772400" y="2438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343400" y="3429000"/>
            <a:ext cx="3505320" cy="2746440"/>
          </a:xfrm>
          <a:prstGeom prst="rect">
            <a:avLst/>
          </a:prstGeom>
          <a:ln w="0">
            <a:noFill/>
          </a:ln>
        </p:spPr>
      </p:pic>
      <p:sp>
        <p:nvSpPr>
          <p:cNvPr id="129" name="Oval 8"/>
          <p:cNvSpPr/>
          <p:nvPr/>
        </p:nvSpPr>
        <p:spPr>
          <a:xfrm>
            <a:off x="7162920" y="3124080"/>
            <a:ext cx="5331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343400" y="4724280"/>
            <a:ext cx="1676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(streaming) on a PC or Ma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th of these machines, make sure that the Windows Media Player is installed and selected.  Then place a checkmark in the Enable Closed Captioning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571840" cy="106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5562720" y="3276720"/>
            <a:ext cx="34002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0:01Z</dcterms:created>
  <dc:creator>mmonjan</dc:creator>
  <dc:description/>
  <dc:language>en-US</dc:language>
  <cp:lastModifiedBy>Shannon2</cp:lastModifiedBy>
  <dcterms:modified xsi:type="dcterms:W3CDTF">2010-07-15T22:51:13Z</dcterms:modified>
  <cp:revision>259</cp:revision>
  <dc:subject/>
  <dc:title>What is the DEN?</dc:title>
</cp:coreProperties>
</file>